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279-2065-4601-9E88-A547BC03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CC6-EE55-43CF-BF5B-A24A7F6E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826-2884-4B32-9497-408CDF22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59D-A5BE-4E1D-B44C-B19926A6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1E1E-2B70-4307-B0ED-D61E8CC3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015E-2C25-44C7-A011-7A8904E1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4DB6-9A72-4659-846F-632DB220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5A3-81FA-4219-8688-0A561B3A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1C69-BFF1-43AB-8276-914806BC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503D-7330-4FB2-A04B-9554373C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D07-425A-45C1-BD17-4EAAF42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656-5E7B-4841-B16C-B813CB1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51D9-D83A-4D0F-AEC8-3A972EA1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4FCA-ABA6-4B88-86AF-BB0BD05C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0C66-1B6D-40FF-911E-E96B3757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DC7C-815F-4305-94DF-97A59C82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AE2B-90AD-4160-9995-591E5B8A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6EC4-FD39-4893-AE92-EA6B207C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F90E-CE32-410B-B8D6-B9DD645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3D74-90EC-4BF8-8663-BEEAA63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89CB-B06D-4703-AB55-BEB57712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0344-C342-4F00-A20C-D254FBD2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4F3-6588-459D-A2D0-63381122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B82E-4B03-453B-A423-289CE437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855C-C755-4679-8255-5C28F82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CA1F4-1C70-4931-BB5B-75B55981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78457-7022-45DF-AF09-F0422835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7DA9-40C8-4B39-B133-7F721929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25A6-D5A9-427A-89F1-8ADFE967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C78E-59DE-44FE-9830-BBCCF92D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D24-9F5B-4145-BB7B-1976EF21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143-29AD-41AD-AF79-C15022AF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4CA-0007-4060-809A-36B7F51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CEC-BAF0-4D2C-9C35-448A6E2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997-200F-4421-B131-1CBF739B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CA4-BADC-4C3E-8FFB-F67E8A7A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1892-F55D-43D9-8355-B18D4E1F8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0D0-BADE-4649-8187-5DB43AD299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D324-C3B4-47C3-B6D6-D409E12CB0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baidu.com/i?ct=503316480&amp;z=822289101&amp;tn=baiduimagedetail&amp;word=&#20882;&#39039;&#21333;&#20110;&amp;in=2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2276640"/>
            <a:ext cx="84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414680"/>
            <a:ext cx="69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、 谁派人修筑了举世闻名的万里长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、长城修建的目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393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715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70320" y="8175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汉武帝大一统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628640"/>
          <a:ext cx="8280360" cy="46213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治方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削弱诸侯国势力，加强中央集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思想方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接受董仲舒建议，“罢黜百家，独尊儒术，把儒家思想做为封建正统思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方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把地方的铸币权和盐铁经营权收归中央，统一铸造五铢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军事方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派卫青、霍去病抗击匈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4568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方正粗圆简体"/>
                <a:ea typeface="方正粗圆简体"/>
              </a:rPr>
              <a:t>王昭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429000" y="1219320"/>
            <a:ext cx="2651040" cy="54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609480" y="1600200"/>
            <a:ext cx="7848720" cy="4267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王昭君，名嫱，汉元帝时宫女，封为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君，晋因避司马昭讳，改称为明君或明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西汉南郡秭归人。竟宁元年（前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年），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奴呼韩邪单于来朝请求和亲，昭君自愿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嫁于匈奴。被单于封为“宁胡阏氏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　　成帝建始二年（前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呼韩邪死，成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命她遵从匈奴风俗，昭君继为复株累若鞮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阏氏。又生二女，长女名云，为须卜居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次女为当于居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730520" y="907920"/>
            <a:ext cx="4066920" cy="4608720"/>
            <a:chOff x="1730520" y="907920"/>
            <a:chExt cx="4066920" cy="4608720"/>
          </a:xfrm>
        </p:grpSpPr>
        <p:sp>
          <p:nvSpPr>
            <p:cNvPr id="212" name=""/>
            <p:cNvSpPr/>
            <p:nvPr/>
          </p:nvSpPr>
          <p:spPr>
            <a:xfrm>
              <a:off x="1730520" y="907920"/>
              <a:ext cx="4066920" cy="4608720"/>
            </a:xfrm>
            <a:prstGeom prst="bevel">
              <a:avLst>
                <a:gd name="adj" fmla="val 29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1861920" y="1040400"/>
              <a:ext cx="3781800" cy="434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6156360" y="0"/>
            <a:ext cx="2987640" cy="551664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0760" y="-1225440"/>
            <a:ext cx="26182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1600200" indent="-228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边城晏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DFKai-SB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牛马布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DFKai-SB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三世亡犬吠之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DFKai-SB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黎庶无干戈之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DFKai-SB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1480" y="442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昭君出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080" y="5516640"/>
            <a:ext cx="91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王昭君是和平的使者，促进了汉族和匈奴族的友好相处，推动了汉匈的经济文化交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183960" y="1197000"/>
            <a:ext cx="1874160" cy="4101840"/>
            <a:chOff x="-183960" y="1197000"/>
            <a:chExt cx="1874160" cy="4101840"/>
          </a:xfrm>
        </p:grpSpPr>
        <p:sp>
          <p:nvSpPr>
            <p:cNvPr id="219" name=""/>
            <p:cNvSpPr/>
            <p:nvPr/>
          </p:nvSpPr>
          <p:spPr>
            <a:xfrm>
              <a:off x="899640" y="1197000"/>
              <a:ext cx="79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和亲对象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60" y="1913040"/>
              <a:ext cx="7542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韩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邪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单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-183960" y="3494160"/>
              <a:ext cx="14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y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é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1989000"/>
            <a:ext cx="3959280" cy="4680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989000"/>
            <a:ext cx="3959280" cy="4680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60000" y="404280"/>
            <a:ext cx="8604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昭君出塞和汉初的“和亲”都是汉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女子远嫁匈奴，两者有什么不同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317080" y="6373800"/>
            <a:ext cx="826920" cy="484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11280" y="289548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是在国力弱小情况下，被迫采取的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中宋"/>
              </a:rPr>
              <a:t>求和之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4000" spc="-1" strike="noStrike">
                <a:solidFill>
                  <a:srgbClr val="e6013b"/>
                </a:solidFill>
                <a:latin typeface="Arial"/>
                <a:ea typeface="华文中宋"/>
              </a:rPr>
              <a:t>不能实现真正的和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36200" y="19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中宋"/>
              </a:rPr>
              <a:t>汉初和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80160" y="1989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中宋"/>
              </a:rPr>
              <a:t>昭君出塞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2889360"/>
            <a:ext cx="391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双方是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中宋"/>
              </a:rPr>
              <a:t>自愿的交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。通过和亲实现了</a:t>
            </a:r>
            <a:r>
              <a:rPr b="1" lang="zh-CN" sz="4000" spc="-1" strike="noStrike">
                <a:solidFill>
                  <a:srgbClr val="e6013b"/>
                </a:solidFill>
                <a:latin typeface="Arial"/>
                <a:ea typeface="华文中宋"/>
              </a:rPr>
              <a:t>民族的融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1" lang="zh-CN" sz="4000" spc="-1" strike="noStrike">
                <a:solidFill>
                  <a:srgbClr val="e6013b"/>
                </a:solidFill>
                <a:latin typeface="Arial"/>
                <a:ea typeface="华文中宋"/>
              </a:rPr>
              <a:t>长久的和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-1185840" y="765000"/>
            <a:ext cx="103298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汉武帝从匈奴手中夺取了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002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河套地区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河西走廊地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002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漠北地区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河套和河西走廊地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32720" y="907920"/>
            <a:ext cx="422280" cy="63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D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1185840" y="3213000"/>
            <a:ext cx="92869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昭君出塞和亲的对象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002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冒顿单于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呼韩邪单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002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成吉思汗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汉元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372360" y="3284640"/>
            <a:ext cx="422280" cy="63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B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123400" y="6259680"/>
            <a:ext cx="1020600" cy="598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7932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民族中已经没有匈奴族。东汉时匈奴分裂为南北两部。南匈奴内迁，与汉族人 融合；北匈奴控制西域。东汉大将窦宪、窦固多次大败北匈奴，北匈奴势力日益衰落。后来不断西迁，最后融化在欧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125360"/>
            <a:ext cx="596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1440" y="765000"/>
            <a:ext cx="46393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60093"/>
                </a:solidFill>
                <a:latin typeface="Tahoma"/>
              </a:rPr>
              <a:t>今天</a:t>
            </a:r>
            <a:r>
              <a:rPr b="1" i="1" lang="en-US" sz="4000" spc="-1" strike="noStrike">
                <a:solidFill>
                  <a:srgbClr val="d60093"/>
                </a:solidFill>
                <a:latin typeface="Tahoma"/>
              </a:rPr>
              <a:t>56</a:t>
            </a:r>
            <a:r>
              <a:rPr b="1" i="1" lang="zh-CN" sz="4000" spc="-1" strike="noStrike">
                <a:solidFill>
                  <a:srgbClr val="d60093"/>
                </a:solidFill>
                <a:latin typeface="Tahoma"/>
              </a:rPr>
              <a:t>个民族中有匈奴族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"/>
                            </p:stCondLst>
                            <p:childTnLst>
                              <p:par>
                                <p:cTn id="33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2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33" dur="50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948360" y="4508640"/>
            <a:ext cx="18226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华文隶书"/>
              </a:rPr>
              <a:t>和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108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4292640"/>
            <a:ext cx="1800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方正舒体"/>
              </a:rPr>
              <a:t>战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76360" y="98100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匈奴兴起，汉初国力相对弱小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162864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788000" y="162864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cf01"/>
                  </a:solidFill>
                  <a:miter/>
                </a:ln>
                <a:solidFill>
                  <a:srgbClr val="ffcf01">
                    <a:alpha val="39000"/>
                  </a:srgbClr>
                </a:solidFill>
                <a:latin typeface="宋体"/>
              </a:rPr>
              <a:t>和亲</a:t>
            </a:r>
            <a:endParaRPr b="0" lang="en-US" sz="2800" spc="-1" strike="noStrike">
              <a:ln w="9360">
                <a:solidFill>
                  <a:srgbClr val="ffcf01"/>
                </a:solidFill>
                <a:miter/>
              </a:ln>
              <a:solidFill>
                <a:srgbClr val="ffcf01">
                  <a:alpha val="3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24000" y="2205000"/>
            <a:ext cx="5386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汉武帝时国力强盛，出兵反击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299736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47640" y="2997360"/>
            <a:ext cx="27352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>
                    <a:alpha val="39000"/>
                  </a:srgbClr>
                </a:solidFill>
                <a:latin typeface="宋体"/>
              </a:rPr>
              <a:t>卫青、霍去病大破匈奴</a:t>
            </a:r>
            <a:endParaRPr b="0" lang="en-US" sz="2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>
                  <a:alpha val="3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47640" y="364500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汉元帝时，呼韩邪单于请求和亲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4437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859280" y="4365720"/>
            <a:ext cx="165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ffcf01"/>
                  </a:solidFill>
                  <a:miter/>
                </a:ln>
                <a:solidFill>
                  <a:srgbClr val="ffcf01">
                    <a:alpha val="39000"/>
                  </a:srgbClr>
                </a:solidFill>
                <a:latin typeface="宋体"/>
              </a:rPr>
              <a:t>昭君出塞</a:t>
            </a:r>
            <a:endParaRPr b="0" lang="en-US" sz="2800" spc="-1" strike="noStrike">
              <a:ln w="9360">
                <a:solidFill>
                  <a:srgbClr val="ffcf01"/>
                </a:solidFill>
                <a:miter/>
              </a:ln>
              <a:solidFill>
                <a:srgbClr val="ffcf01">
                  <a:alpha val="3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1908000" y="4797360"/>
            <a:ext cx="49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隶书"/>
              </a:rPr>
              <a:t>和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123400" y="6259680"/>
            <a:ext cx="1020600" cy="598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03800" y="19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梳理历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00000" y="2120760"/>
            <a:ext cx="7704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冒顿统一北边疆，迫使汉初和亲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将卫青、霍去病，北击匈奴震四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汉匈和同为一家，昭君出塞美名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1880" y="92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8520" y="4568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Tahoma"/>
                <a:ea typeface="幼圆"/>
              </a:rPr>
              <a:t>小小史学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8320" y="1523880"/>
            <a:ext cx="8434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第一次统一我国北方草原的少数民族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蒙古族　　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突厥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匈奴族　　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党项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590920"/>
            <a:ext cx="851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下面是发生在两汉时期的几个历史事件，使匈奴不能再与西汉抗衡的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公元前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年汉高祖派兵抵御匈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公元前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119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年卫青、霍去病出击匈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汉武帝派兵攻打匈奴，夺得河套地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东汉时期窦固、窦宪出击北匈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昭君出塞是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汉文帝时　　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汉高祖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汉武帝时　　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．汉元帝时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819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743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648320"/>
            <a:ext cx="91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18760" y="4572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连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3376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50440" y="1828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冒顿单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75120" y="29718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卫青、 霍去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6280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呼韩邪单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852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王昭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972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统一蒙古草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38920" y="18288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公元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大败匈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36360" y="51055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汉元帝主动请求“和亲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6680" y="2895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出塞远嫁匈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2057400"/>
            <a:ext cx="1708200" cy="23623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657240" y="2057400"/>
            <a:ext cx="103500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4495680"/>
            <a:ext cx="1143000" cy="838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76720" y="3352680"/>
            <a:ext cx="1752480" cy="1905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3218040"/>
            <a:ext cx="7391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匈奴的兴起及与汉朝的和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90720" y="1774800"/>
            <a:ext cx="230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671480" y="907920"/>
            <a:ext cx="686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03480" y="105264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1052640"/>
            <a:ext cx="426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35120" y="2563920"/>
            <a:ext cx="506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9120" y="2563920"/>
            <a:ext cx="556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1773360"/>
            <a:ext cx="7489800" cy="4483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、 选择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匈奴历史上称首领为（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可汗　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单于　 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皇帝　 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大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第一次统一蒙古草原的为（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汉武帝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冒顿单于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汉高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呼韩邪单于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汉初采取和亲政策的主要原因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密切与匈奴的友好关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匈奴单于主动 请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汉高祖对匈奴施恩　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汉初国力不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西汉时期抗击北匈奴的名将是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① 卫青 ②霍去病 ③窦宪 ④窦固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①②　　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②③　 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③④ 　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．②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59280" y="549360"/>
            <a:ext cx="41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练一练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282" name=""/>
          <p:cNvSpPr/>
          <p:nvPr/>
        </p:nvSpPr>
        <p:spPr>
          <a:xfrm>
            <a:off x="73512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0" y="2708280"/>
            <a:ext cx="1187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？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5" name=""/>
          <p:cNvSpPr/>
          <p:nvPr/>
        </p:nvSpPr>
        <p:spPr>
          <a:xfrm>
            <a:off x="5435640" y="213372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04000" y="3933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54960" y="50846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6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9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2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匈奴的首领称为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国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单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皇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冒顿统一蒙古草原时，中原地区正处在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秦朝末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王莽时期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西汉时期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东汉时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列有关匈奴社会经济的表述，不正确的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畜牧业兴旺发达，为匈奴骑兵提供大量马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冶铸业十分发达，能够制造铁制农具和兵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逐渐有了农耕，开始过上定居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金属制品上装饰着富有民族特色的动物图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3581280" y="533520"/>
            <a:ext cx="609840" cy="60948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3"/>
          </p:cNvPr>
          <p:cNvSpPr/>
          <p:nvPr/>
        </p:nvSpPr>
        <p:spPr>
          <a:xfrm>
            <a:off x="0" y="19051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4"/>
          </p:cNvPr>
          <p:cNvSpPr/>
          <p:nvPr/>
        </p:nvSpPr>
        <p:spPr>
          <a:xfrm>
            <a:off x="0" y="44197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匈奴不再能与西汉抗衡的历史事件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白登之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卫青、霍去病出击匈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蒙恬出击匈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窦固、窦宪出击北匈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汉武帝反击匈奴的原因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西汉经济繁荣，国力强盛②西汉政权巩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吞并匈奴          ④为了确保北部边郡的安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①②③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②③④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①②④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①③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匈奴分为南北两部是在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西汉初年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秦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东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西汉末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2"/>
          </p:cNvPr>
          <p:cNvSpPr/>
          <p:nvPr/>
        </p:nvSpPr>
        <p:spPr>
          <a:xfrm>
            <a:off x="4495680" y="609480"/>
            <a:ext cx="609840" cy="60984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3"/>
          </p:cNvPr>
          <p:cNvSpPr/>
          <p:nvPr/>
        </p:nvSpPr>
        <p:spPr>
          <a:xfrm>
            <a:off x="3886200" y="3809880"/>
            <a:ext cx="609480" cy="60984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4"/>
          </p:cNvPr>
          <p:cNvSpPr/>
          <p:nvPr/>
        </p:nvSpPr>
        <p:spPr>
          <a:xfrm>
            <a:off x="3657600" y="5105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492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昭君出塞是在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汉高祖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汉武帝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汉成帝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汉元帝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东汉时，经常肖兵南下进攻东汉边境的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北匈奴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南匈奴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东匈奴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西匈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两汉时期汉与匈奴的关系实质上是（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Ａ、中央政权与地方政权之间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Ｂ、统治民族与被统治民族之间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Ｃ、汉朝内部民族间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Ｄ、中华民族发展史上两个民族之间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/>
          </p:cNvPr>
          <p:cNvSpPr/>
          <p:nvPr/>
        </p:nvSpPr>
        <p:spPr>
          <a:xfrm>
            <a:off x="6400800" y="533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3"/>
          </p:cNvPr>
          <p:cNvSpPr/>
          <p:nvPr/>
        </p:nvSpPr>
        <p:spPr>
          <a:xfrm>
            <a:off x="0" y="19051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4"/>
          </p:cNvPr>
          <p:cNvSpPr/>
          <p:nvPr/>
        </p:nvSpPr>
        <p:spPr>
          <a:xfrm>
            <a:off x="0" y="5105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54936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Tahoma"/>
                <a:ea typeface="华文新魏"/>
              </a:rPr>
              <a:t>一、</a:t>
            </a:r>
            <a:r>
              <a:rPr b="0" lang="zh-CN" sz="54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冒顿统一蒙古草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060640"/>
            <a:ext cx="3240360" cy="3816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6021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ahoma"/>
              </a:rPr>
              <a:t>冒 顿 单 于 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95920" y="1873080"/>
            <a:ext cx="79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想一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冒顿为什么能统一蒙古草原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908000" y="1341360"/>
            <a:ext cx="17272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134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秦汉之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2205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蒙古草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3068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冒顿单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3860640"/>
            <a:ext cx="731052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军事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骑兵力量强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济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畜牧业、手工业发达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农业开始起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-1041480" y="-97200"/>
            <a:ext cx="8134560" cy="8334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600200" indent="0">
              <a:spcBef>
                <a:spcPts val="27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一、匈奴的兴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2205000"/>
            <a:ext cx="1800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97200" y="2967120"/>
            <a:ext cx="1811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6560" y="3789360"/>
            <a:ext cx="1728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1844640"/>
            <a:ext cx="2484360" cy="1584360"/>
          </a:xfrm>
          <a:prstGeom prst="rect">
            <a:avLst/>
          </a:prstGeom>
          <a:solidFill>
            <a:srgbClr val="008000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00200" indent="-2286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6360" y="2136600"/>
            <a:ext cx="37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冒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ò d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0200" indent="-2286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án y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932360" y="2492280"/>
            <a:ext cx="165564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-1871640" y="2708280"/>
            <a:ext cx="5400720" cy="1657440"/>
          </a:xfrm>
          <a:custGeom>
            <a:avLst/>
            <a:gdLst>
              <a:gd name="textAreaLeft" fmla="*/ 843840 w 5400720"/>
              <a:gd name="textAreaRight" fmla="*/ 4725720 w 5400720"/>
              <a:gd name="textAreaTop" fmla="*/ 414360 h 1657440"/>
              <a:gd name="textAreaBottom" fmla="*/ 1243080 h 165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 rot="5400000">
            <a:off x="-1112760" y="3425760"/>
            <a:ext cx="387648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>
                    <a:alpha val="67000"/>
                  </a:srgbClr>
                </a:solidFill>
                <a:latin typeface="隶书"/>
              </a:rPr>
              <a:t>冒顿统一蒙古草原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>
                  <a:alpha val="67000"/>
                </a:srgbClr>
              </a:solidFill>
              <a:latin typeface="隶书"/>
              <a:ea typeface="隶书"/>
            </a:endParaRPr>
          </a:p>
        </p:txBody>
      </p:sp>
    </p:spTree>
  </p:cSld>
  <p:transition spd="med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4320" y="6714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冒顿单于最大的功绩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励精图治，严格治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建立了一支三十万人，纪律严明的骑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一次统一了蒙古草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继承了单于位置，成为匈奴最高首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685800"/>
            <a:ext cx="175284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6172200"/>
            <a:ext cx="685800" cy="533520"/>
          </a:xfrm>
          <a:prstGeom prst="leftArrow">
            <a:avLst>
              <a:gd name="adj1" fmla="val 50000"/>
              <a:gd name="adj2" fmla="val 321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825480" y="0"/>
            <a:ext cx="7808760" cy="7642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二、汉朝与匈奴的和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580000" y="476280"/>
            <a:ext cx="3744720" cy="1368360"/>
            <a:chOff x="5580000" y="476280"/>
            <a:chExt cx="3744720" cy="1368360"/>
          </a:xfrm>
        </p:grpSpPr>
        <p:sp>
          <p:nvSpPr>
            <p:cNvPr id="170" name=""/>
            <p:cNvSpPr/>
            <p:nvPr/>
          </p:nvSpPr>
          <p:spPr>
            <a:xfrm>
              <a:off x="6564240" y="476280"/>
              <a:ext cx="2647080" cy="136836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0000" y="836640"/>
              <a:ext cx="37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西汉初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-538200" y="1341360"/>
            <a:ext cx="7702560" cy="1937880"/>
            <a:chOff x="-538200" y="1341360"/>
            <a:chExt cx="7702560" cy="1937880"/>
          </a:xfrm>
        </p:grpSpPr>
        <p:sp>
          <p:nvSpPr>
            <p:cNvPr id="173" name=""/>
            <p:cNvSpPr/>
            <p:nvPr/>
          </p:nvSpPr>
          <p:spPr>
            <a:xfrm>
              <a:off x="-536760" y="1341360"/>
              <a:ext cx="705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表现：和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538200" y="2636640"/>
              <a:ext cx="770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果：未能阻止匈奴南下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538200" y="1989000"/>
              <a:ext cx="75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原因：汉初国力相对弱小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6259680"/>
            <a:ext cx="1020600" cy="598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6659640" y="3645000"/>
            <a:ext cx="18223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华文隶书"/>
              </a:rPr>
              <a:t>和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108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med"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2133720"/>
            <a:ext cx="1904760" cy="155628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秦末汉初匈奴屡次南犯说明了什么？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4581360"/>
            <a:ext cx="2438280" cy="1068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西汉国力不足，相对匈奴处于劣势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2133720"/>
            <a:ext cx="2438280" cy="10688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对匈奴的骚扰，西汉该怎么办？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4653000"/>
            <a:ext cx="1871640" cy="1068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被迫采取和亲政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72360" y="2276640"/>
            <a:ext cx="2438280" cy="5814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和亲政策效果如何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3716280"/>
            <a:ext cx="29718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没有从根本上解除匈奴的威胁。但大的冲突暂时避免，为西汉争取了发展生产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2781360"/>
            <a:ext cx="609480" cy="304920"/>
          </a:xfrm>
          <a:custGeom>
            <a:avLst/>
            <a:gdLst>
              <a:gd name="textAreaLeft" fmla="*/ 7596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852640"/>
            <a:ext cx="609840" cy="304920"/>
          </a:xfrm>
          <a:custGeom>
            <a:avLst/>
            <a:gdLst>
              <a:gd name="textAreaLeft" fmla="*/ 7596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79640" y="189000"/>
            <a:ext cx="2057400" cy="15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华文新魏"/>
              </a:rPr>
              <a:t>和亲政策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26920" y="1413000"/>
            <a:ext cx="1800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方正舒体"/>
              </a:rPr>
              <a:t>战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08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580000" y="476280"/>
            <a:ext cx="3564000" cy="1368360"/>
            <a:chOff x="5580000" y="476280"/>
            <a:chExt cx="3564000" cy="1368360"/>
          </a:xfrm>
        </p:grpSpPr>
        <p:sp>
          <p:nvSpPr>
            <p:cNvPr id="189" name=""/>
            <p:cNvSpPr/>
            <p:nvPr/>
          </p:nvSpPr>
          <p:spPr>
            <a:xfrm>
              <a:off x="6516720" y="476280"/>
              <a:ext cx="2519280" cy="136836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80000" y="836640"/>
              <a:ext cx="35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隶书"/>
                </a:rPr>
                <a:t>西汉中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-825480" y="0"/>
            <a:ext cx="7808760" cy="7642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细黑"/>
              </a:rPr>
              <a:t>二、汉朝与匈奴的和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104760" y="3716280"/>
            <a:ext cx="9502920" cy="2084040"/>
            <a:chOff x="-104760" y="3716280"/>
            <a:chExt cx="9502920" cy="2084040"/>
          </a:xfrm>
        </p:grpSpPr>
        <p:sp>
          <p:nvSpPr>
            <p:cNvPr id="193" name=""/>
            <p:cNvSpPr/>
            <p:nvPr/>
          </p:nvSpPr>
          <p:spPr>
            <a:xfrm>
              <a:off x="-104760" y="3716280"/>
              <a:ext cx="84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表现：卫青、霍去病大破匈奴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104760" y="5157720"/>
              <a:ext cx="950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影响：解除了匈奴对西汉边境的威胁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104760" y="4437000"/>
              <a:ext cx="838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00200" indent="-2286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原因：汉武帝时西汉国力强盛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6259680"/>
            <a:ext cx="1020600" cy="598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2205000"/>
            <a:ext cx="1976400" cy="10688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汉初和亲政策效果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4365720"/>
            <a:ext cx="2808360" cy="1068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西汉武帝时国力强盛，匈奴处于劣势。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72360" y="1989000"/>
            <a:ext cx="2438280" cy="10688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面对匈奴的骚扰，西汉武帝该怎么办？</a:t>
            </a:r>
            <a:r>
              <a:rPr b="1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4724280"/>
            <a:ext cx="1871640" cy="1068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动采取反击政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2349360"/>
            <a:ext cx="2438280" cy="5814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汉武帝时国力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4292640"/>
            <a:ext cx="237636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从根本上解除匈奴的威胁，但大的冲突暂时避免，为西汉争取了发展生产的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2781360"/>
            <a:ext cx="609480" cy="304920"/>
          </a:xfrm>
          <a:custGeom>
            <a:avLst/>
            <a:gdLst>
              <a:gd name="textAreaLeft" fmla="*/ 7596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2852640"/>
            <a:ext cx="609840" cy="304920"/>
          </a:xfrm>
          <a:custGeom>
            <a:avLst/>
            <a:gdLst>
              <a:gd name="textAreaLeft" fmla="*/ 7596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47640" y="476280"/>
            <a:ext cx="410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细黑"/>
              </a:rPr>
              <a:t>反击政策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 spd="med">
    <p:wheel spokes="8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3:04:03Z</dcterms:created>
  <dc:creator/>
  <dc:description/>
  <dc:language>en-US</dc:language>
  <cp:lastModifiedBy>微软用户</cp:lastModifiedBy>
  <cp:lastPrinted>1899-12-30T00:00:00Z</cp:lastPrinted>
  <dcterms:modified xsi:type="dcterms:W3CDTF">2009-11-26T12:00:51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